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01E-0E10-44B1-BE61-E27F1DDC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1E7-5E89-46CA-9095-5AF3B7E4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58A-94F6-4433-9E57-1F132765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DEE-B362-4494-81CF-212A6648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2EAB-8E40-41E5-AF89-AD135CE5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6072-4DF4-4C71-AFA1-7AC853C4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1868-E322-4BDE-A3E3-B0EF78E7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33EE-6207-4B78-8FCA-6216D497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1E12-B93F-4C0A-A507-AAF64C1C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7E9D-04EF-4D5E-A5AA-B10EC079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1F53-9090-4C31-BFC6-F063E78A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9F9-6002-4373-99B4-C4F2B3B8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2A43-71A7-4238-BCA8-3CA03A83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BBFC-91CA-4B16-8590-2F5805B8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338D-587A-48D8-BE85-9499F0D5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DE86-0D32-42F5-9859-1F77A8EE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2C1F-5CBE-458B-9728-105A3006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641-F6BF-4D61-AC74-BEBB134F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FE8A-88C9-4E69-AC57-77A48A83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7151-A6CD-4082-A926-74207A35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9579-FD28-47F9-BBCE-EEDA5FA7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104-27C4-4D39-B702-B83DF8B3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F0A-9781-4790-AF69-FD3E7D06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9C4-BD4E-411B-A0CC-BE6AEAA9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57D2-F8A7-4F7F-A1EA-FF5F2F8E4A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676E-5ECA-4453-9BCE-0DDF475FDB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lze.Trusinska@vidm.gov.lv" TargetMode="External"/><Relationship Id="rId2" Type="http://schemas.openxmlformats.org/officeDocument/2006/relationships/hyperlink" Target="http://www.vidm.gov.lv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6000" spc="-1" strike="noStrike">
                <a:solidFill>
                  <a:srgbClr val="ffff00"/>
                </a:solidFill>
                <a:latin typeface="Arial"/>
              </a:rPr>
              <a:t>Vides aizsardzības lietu trīspusējās sadarbības apakšpadomes darbība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Vides aizsardzības lietu trīspusējās sadarbības apakšpadomes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(turpmāk VALTSA)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sastāv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306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ē ir 15 pārstāvji (pa 5 no katras puses), kurus deleģē Vides ministrija, Latvijas Brīvo Arodbiedrību savienība un Latvijas Darba Devēju konfederā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ALTSA uzdev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zskatīt politikas plānošanas un normatīvo aktu projektus, valsts budžeta projekta pamatnostādne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vides aizsardzības normatīvo aktu pilnveidošan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priekšlikumu izstrādāšanā un izskatīt Latvijas nacionālās pozīcija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arbības metod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stāvīga informācijas apmaiņ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kšanā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dom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ē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izi divos mēnešos(2007. gadā notikušas 5 sanāksm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āvīga elektroniskā komunikā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2007. gadā VALTSA sēdēs skatītie jautāj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isijas kvotu sadales plāna 2008.-2012. gadam apstiprināšanas gaita Eiropas Komis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iācijas iekļaušana Eiropas Savienības emisiju kvotu tirdzniecības sistēm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jaunojamo energoresursu izmantošanas pamatnostādņu  2006.-2013. g. ievieša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ikumu projekts „Noteikumi par elektroenerģijas ražošanu izmantojot atjaunojamos energoresurs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cionālais pārskats par Ilgtspējīgas attīstības stratēģijas īstenoša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kumprojekts „Grozījumi atkritumu apsaimniekošanas likumā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gtspējīga patēriņa, ražošanas Rīcības plā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ļā iepirkuma veicināšana Latv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ropas Savienības Vides ministru padomes darba kārtības jautāju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2008. gada plānotie jautājumi VALTSA sēdē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erģētikas  un klimata pak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emisijas kvotu tirdzniecības sistē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ārskatīšan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ēmuma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ltumnīcefekta gāzu emisijā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kuras neaptver ES emisijas kvotu tirdzniecības sistēm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jaunojamo energoresursu avot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zmantošanu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iācijas radītā ietekme uz klimata pārmaiņā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iropas Savienības Vides padomju izskatāmie darba kārtības jautāju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Zaļais iepirku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Ilze Trušinska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es sekretā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Ilze.Trusinska@vidm.gov.l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t. 6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65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vidm.gov.lv/</a:t>
            </a: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sadaļā padomes un konsultatīvās padomes „Vides aizsardzības lietu trīspusējās sadarbības apakšpad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27:45Z</dcterms:created>
  <dc:creator>Aija</dc:creator>
  <dc:description/>
  <dc:language>en-US</dc:language>
  <cp:lastModifiedBy>Sanita Diediske</cp:lastModifiedBy>
  <dcterms:modified xsi:type="dcterms:W3CDTF">2008-05-09T08:36:32Z</dcterms:modified>
  <cp:revision>17</cp:revision>
  <dc:subject/>
  <dc:title>Stratēģijas un koordinācijas departamen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08320886</vt:r8>
  </property>
  <property fmtid="{D5CDD505-2E9C-101B-9397-08002B2CF9AE}" pid="3" name="_AuthorEmail">
    <vt:lpwstr>Ilze.Trusinska@vidm.gov.lv</vt:lpwstr>
  </property>
  <property fmtid="{D5CDD505-2E9C-101B-9397-08002B2CF9AE}" pid="4" name="_AuthorEmailDisplayName">
    <vt:lpwstr>Ilze Trušinska</vt:lpwstr>
  </property>
  <property fmtid="{D5CDD505-2E9C-101B-9397-08002B2CF9AE}" pid="5" name="_EmailSubject">
    <vt:lpwstr>VALTSA darbība_2007. gads</vt:lpwstr>
  </property>
  <property fmtid="{D5CDD505-2E9C-101B-9397-08002B2CF9AE}" pid="6" name="_ReviewingToolsShownOnce">
    <vt:lpwstr/>
  </property>
</Properties>
</file>